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15.png" ContentType="image/png"/>
  <Override PartName="/ppt/media/image14.png" ContentType="image/png"/>
  <Override PartName="/ppt/media/image6.gif" ContentType="image/gif"/>
  <Override PartName="/ppt/media/image9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7.gif" ContentType="image/gif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D42A-9EE0-41A3-9574-F0D1DE47F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ADCD-BA66-4D9D-B123-36E9D91E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4791-8894-450E-833D-2BB548220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1A91-AF6E-4CB6-B40E-8D9329663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374B-F14E-4D75-A7A7-B40B3130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31F9-BAD1-4749-8849-E670451E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9E6D-BEA7-49C3-9DBD-6EF71E03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2B69-B1D4-45A3-A7D7-F943E6F1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5675-8216-4DE2-BE42-71068743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64F9-34A6-4766-AFE0-B7879388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DFA7-EA06-4433-9214-957CB431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20DE-56D4-4FD7-A1EF-DF47DFC5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A00A-0DA3-4A92-A82C-D070DD7C27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0" t="0" r="0" b="7307"/>
          <a:stretch/>
        </p:blipFill>
        <p:spPr>
          <a:xfrm>
            <a:off x="324000" y="1341360"/>
            <a:ext cx="3819240" cy="52974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1" descr=""/>
          <p:cNvPicPr/>
          <p:nvPr/>
        </p:nvPicPr>
        <p:blipFill>
          <a:blip r:embed="rId2"/>
          <a:stretch/>
        </p:blipFill>
        <p:spPr>
          <a:xfrm>
            <a:off x="2120760" y="55440"/>
            <a:ext cx="7047000" cy="32544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1835280" y="4941720"/>
            <a:ext cx="67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Авто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ОУ СОШ №25 г.Со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ухина М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611280" y="189000"/>
            <a:ext cx="65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живешь?</a:t>
            </a:r>
            <a:br>
              <a:rPr sz="5400"/>
            </a:b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Вот так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1692360" y="1971720"/>
            <a:ext cx="58561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826920" y="1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идешь?</a:t>
            </a:r>
            <a:br>
              <a:rPr sz="5400"/>
            </a:b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Вот так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3112920" y="2624040"/>
            <a:ext cx="5712120" cy="38084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" descr=""/>
          <p:cNvPicPr/>
          <p:nvPr/>
        </p:nvPicPr>
        <p:blipFill>
          <a:blip r:embed="rId2"/>
          <a:stretch/>
        </p:blipFill>
        <p:spPr>
          <a:xfrm flipH="1">
            <a:off x="826920" y="2243160"/>
            <a:ext cx="362592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971640" y="2602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бежишь?</a:t>
            </a:r>
            <a:br>
              <a:rPr sz="5400"/>
            </a:b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Вот так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2" descr=""/>
          <p:cNvPicPr/>
          <p:nvPr/>
        </p:nvPicPr>
        <p:blipFill>
          <a:blip r:embed="rId1"/>
          <a:stretch/>
        </p:blipFill>
        <p:spPr>
          <a:xfrm>
            <a:off x="5375160" y="1628640"/>
            <a:ext cx="304164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476360" y="2781360"/>
            <a:ext cx="6191280" cy="37148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"/>
          <p:cNvSpPr/>
          <p:nvPr/>
        </p:nvSpPr>
        <p:spPr>
          <a:xfrm>
            <a:off x="736560" y="333360"/>
            <a:ext cx="56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чью спишь?</a:t>
            </a:r>
            <a:br>
              <a:rPr sz="5400"/>
            </a:b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Вот так!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2" descr=""/>
          <p:cNvPicPr/>
          <p:nvPr/>
        </p:nvPicPr>
        <p:blipFill>
          <a:blip r:embed="rId2"/>
          <a:stretch/>
        </p:blipFill>
        <p:spPr>
          <a:xfrm>
            <a:off x="6424560" y="333360"/>
            <a:ext cx="212400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4035600" y="26028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берешь?</a:t>
            </a:r>
            <a:br>
              <a:rPr sz="5400"/>
            </a:b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Вот так!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763800" y="2847960"/>
            <a:ext cx="4872240" cy="3654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36925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5715000" cy="412452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1"/>
          <p:cNvSpPr/>
          <p:nvPr/>
        </p:nvSpPr>
        <p:spPr>
          <a:xfrm>
            <a:off x="630360" y="18900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даешь?</a:t>
            </a:r>
            <a:br>
              <a:rPr sz="5400"/>
            </a:b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Вот так!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2"/>
          <a:srcRect l="2664" t="535" r="-2655" b="10715"/>
          <a:stretch/>
        </p:blipFill>
        <p:spPr>
          <a:xfrm>
            <a:off x="4734000" y="189000"/>
            <a:ext cx="41623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rcRect l="0" t="0" r="15405" b="0"/>
          <a:stretch/>
        </p:blipFill>
        <p:spPr>
          <a:xfrm>
            <a:off x="5076720" y="281160"/>
            <a:ext cx="3638520" cy="634176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"/>
          <p:cNvSpPr/>
          <p:nvPr/>
        </p:nvSpPr>
        <p:spPr>
          <a:xfrm>
            <a:off x="250920" y="404640"/>
            <a:ext cx="57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шалишь?</a:t>
            </a:r>
            <a:br>
              <a:rPr sz="5400"/>
            </a:b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Вот так!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826920" y="2602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грозишь?</a:t>
            </a:r>
            <a:br>
              <a:rPr sz="5400"/>
            </a:b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Вот так!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rcRect l="19754" t="0" r="0" b="0"/>
          <a:stretch/>
        </p:blipFill>
        <p:spPr>
          <a:xfrm>
            <a:off x="5148360" y="237960"/>
            <a:ext cx="3483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31T06:10:59Z</dcterms:created>
  <dc:creator>Admin</dc:creator>
  <dc:description/>
  <dc:language>en-US</dc:language>
  <cp:lastModifiedBy>Acer</cp:lastModifiedBy>
  <dcterms:modified xsi:type="dcterms:W3CDTF">2015-03-25T21:08:32Z</dcterms:modified>
  <cp:revision>8</cp:revision>
  <dc:subject/>
  <dc:title>Слайд 1</dc:title>
</cp:coreProperties>
</file>