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ACCF-5413-41D3-A9CA-3CC6C442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AC3-8901-4E9E-AC34-E2E66E86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A18-27DF-4E64-B87F-840F5317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D9AF-185F-4302-B3FF-710C455D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3347-3783-42CE-8880-DE5EDB2C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82FF-972A-4398-A442-F083678B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195-F407-49A4-AF3D-DD6443C9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9445-6F7C-4029-8D07-35FCF594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A22-2E32-4419-882C-5F57B1BC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9A8-13E3-46AA-8AE6-470DD19F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DF9-0ED5-4A20-A326-805008A3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7EF3-7396-4DDD-8623-9CCCC6B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54AB-3C15-4FA4-B9EF-A74CF4312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0" t="0" r="0" b="7307"/>
          <a:stretch/>
        </p:blipFill>
        <p:spPr>
          <a:xfrm>
            <a:off x="324000" y="1341360"/>
            <a:ext cx="3819240" cy="5297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" descr=""/>
          <p:cNvPicPr/>
          <p:nvPr/>
        </p:nvPicPr>
        <p:blipFill>
          <a:blip r:embed="rId2"/>
          <a:stretch/>
        </p:blipFill>
        <p:spPr>
          <a:xfrm>
            <a:off x="2120760" y="55440"/>
            <a:ext cx="7047000" cy="3254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1835280" y="49417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вт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ОУ СОШ №25 г.С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ухина М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11280" y="1890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жив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1692360" y="1971720"/>
            <a:ext cx="58561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826920" y="1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ид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112920" y="2624040"/>
            <a:ext cx="571212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 flipH="1">
            <a:off x="826920" y="2243160"/>
            <a:ext cx="36259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97164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беж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5375160" y="1628640"/>
            <a:ext cx="304164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76360" y="2781360"/>
            <a:ext cx="6191280" cy="3714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736560" y="333360"/>
            <a:ext cx="56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чью сп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6424560" y="333360"/>
            <a:ext cx="212400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4035600" y="260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бер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763800" y="2847960"/>
            <a:ext cx="4872240" cy="365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3692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5715000" cy="41245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630360" y="18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дае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rcRect l="2664" t="535" r="-2655" b="10715"/>
          <a:stretch/>
        </p:blipFill>
        <p:spPr>
          <a:xfrm>
            <a:off x="4734000" y="189000"/>
            <a:ext cx="4162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rcRect l="0" t="0" r="15405" b="0"/>
          <a:stretch/>
        </p:blipFill>
        <p:spPr>
          <a:xfrm>
            <a:off x="5076720" y="281160"/>
            <a:ext cx="3638520" cy="63417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250920" y="40464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шал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826920" y="260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грозишь?</a:t>
            </a:r>
            <a:br>
              <a:rPr sz="5400"/>
            </a:b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Вот так!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rcRect l="19754" t="0" r="0" b="0"/>
          <a:stretch/>
        </p:blipFill>
        <p:spPr>
          <a:xfrm>
            <a:off x="5148360" y="237960"/>
            <a:ext cx="3483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6:10:59Z</dcterms:created>
  <dc:creator>Admin</dc:creator>
  <dc:description/>
  <dc:language>en-US</dc:language>
  <cp:lastModifiedBy>Acer</cp:lastModifiedBy>
  <dcterms:modified xsi:type="dcterms:W3CDTF">2015-03-25T21:08:32Z</dcterms:modified>
  <cp:revision>8</cp:revision>
  <dc:subject/>
  <dc:title>Слайд 1</dc:title>
</cp:coreProperties>
</file>