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6F2-9A79-48B5-A0F9-88D45143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77B-70B2-42AA-B829-A2E7EFF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E03-935A-4649-96A3-07D6B19A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922-1DC2-4BF7-B89A-0AB0B739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03A-67AC-4911-A8FC-D2ED507E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F94-2BFF-46C0-BCB3-086867AB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336-E298-44F3-9C35-0953B352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DEC-F825-4617-8AF2-9DE896A0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4D8-4D5C-4939-85E6-CB19D4B2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8B4-0238-46FE-8C50-0BFF844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6B6-8003-45DD-AB11-EFBD1AE4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A1B-0A33-4FA2-8E35-017FA4C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CC2B-2049-4E3A-9D4D-8E0D14622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0" r="0" b="7307"/>
          <a:stretch/>
        </p:blipFill>
        <p:spPr>
          <a:xfrm>
            <a:off x="324000" y="1341360"/>
            <a:ext cx="3819240" cy="5297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2120760" y="55440"/>
            <a:ext cx="7047000" cy="3254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835280" y="49417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У СОШ №25 г.С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ухина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11280" y="1890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жив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692360" y="1971720"/>
            <a:ext cx="5856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826920" y="1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ид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112920" y="2624040"/>
            <a:ext cx="571212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 flipH="1">
            <a:off x="826920" y="2243160"/>
            <a:ext cx="36259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7164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беж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375160" y="1628640"/>
            <a:ext cx="30416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6191280" cy="3714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36560" y="33336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чью сп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6424560" y="333360"/>
            <a:ext cx="2124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035600" y="260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бер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763800" y="2847960"/>
            <a:ext cx="4872240" cy="365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692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5715000" cy="41245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630360" y="18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да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rcRect l="2664" t="535" r="-2655" b="10715"/>
          <a:stretch/>
        </p:blipFill>
        <p:spPr>
          <a:xfrm>
            <a:off x="4734000" y="189000"/>
            <a:ext cx="4162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rcRect l="0" t="0" r="15405" b="0"/>
          <a:stretch/>
        </p:blipFill>
        <p:spPr>
          <a:xfrm>
            <a:off x="5076720" y="281160"/>
            <a:ext cx="3638520" cy="63417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50920" y="40464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шал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82692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гроз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rcRect l="19754" t="0" r="0" b="0"/>
          <a:stretch/>
        </p:blipFill>
        <p:spPr>
          <a:xfrm>
            <a:off x="5148360" y="237960"/>
            <a:ext cx="3483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6:10:59Z</dcterms:created>
  <dc:creator>Admin</dc:creator>
  <dc:description/>
  <dc:language>en-US</dc:language>
  <cp:lastModifiedBy>Acer</cp:lastModifiedBy>
  <dcterms:modified xsi:type="dcterms:W3CDTF">2015-03-25T21:08:32Z</dcterms:modified>
  <cp:revision>8</cp:revision>
  <dc:subject/>
  <dc:title>Слайд 1</dc:title>
</cp:coreProperties>
</file>