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3490-A627-4679-A079-038ACEF0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D08E-854A-4BAF-A6F8-9EAE3525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3204-4706-4724-8130-B668B5C27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B678-DFB7-4B7D-9801-7D6045EE9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3131-2750-43E0-B168-8F0F5CC7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F6B3-403A-4BAF-97F2-AC453808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4616-38FF-4FF7-B8A8-3294B8A7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D8C8-A7DF-48F9-9409-57D69374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B556-D624-4238-878B-5911357D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17EB-661E-419B-BFC5-5108A455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3F95-9660-4AA2-957F-8DBE82AB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D7D6-7B91-4B24-9790-1782F2EB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4112-F49F-4091-9E64-0627B097B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27640" y="2060640"/>
            <a:ext cx="41050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ИМНАСТИК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ЛЯ ГЛАЗ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11280" y="1773360"/>
            <a:ext cx="352908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ухина М.В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чител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чальных классов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У СОШ №25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258920" y="1413000"/>
            <a:ext cx="604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Раз, два, три, четыре, пять-                                                                                                                 Можно глазки открывать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356000" y="2997360"/>
            <a:ext cx="3924360" cy="34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68360" y="549360"/>
            <a:ext cx="72723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При письме или при сче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Вы, ребята, устае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Чтобы сохранить нам зрень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Наберитесь-ка терпень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Делай ты для глаз зарядк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Будет все тогда в порядк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227640" y="2133720"/>
            <a:ext cx="261324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16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5280" y="620640"/>
            <a:ext cx="79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Проведем, друзья, сейчас                                                                                                                                              Упражнение для глаз.                                                                                                                             Вправо, влево посмотрели,                                                                                                                                                  Глазки все повеселел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0" y="3141720"/>
            <a:ext cx="393228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1280" y="476280"/>
            <a:ext cx="633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Снизу вверх и сверху вниз.                                                                                                                                  Ты, хрусталик, не сердис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5229360"/>
            <a:ext cx="518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Посмотри на потолок,                                                                                                                                Отыщи там уголок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012000" y="1773360"/>
            <a:ext cx="2666880" cy="3333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987640" y="2133720"/>
            <a:ext cx="1584360" cy="14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84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51194E-006 L 1.94444E-006 -0.29423 E">
                                      <p:cBhvr>
                                        <p:cTn id="36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840"/>
                            </p:stCondLst>
                            <p:childTnLst>
                              <p:par>
                                <p:cTn id="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0.29423 L -0.06302 0.39995 E">
                                      <p:cBhvr>
                                        <p:cTn id="39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84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55640" y="692280"/>
            <a:ext cx="64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Чтобы мышцы крепче стали,                                                                                                                                    Смотрим мы по диагоналя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24000" y="4149720"/>
            <a:ext cx="280800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800"/>
                            </p:stCondLst>
                            <p:childTnLst>
                              <p:par>
                                <p:cTn id="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642 0.05704 L 0.59462 -0.59518 E">
                                      <p:cBhvr>
                                        <p:cTn id="57" dur="3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800"/>
                            </p:stCondLst>
                            <p:childTnLst>
                              <p:par>
                                <p:cTn id="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462 -0.59518 L -0.02743 -0.59518 E">
                                      <p:cBhvr>
                                        <p:cTn id="60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800"/>
                            </p:stCondLst>
                            <p:childTnLst>
                              <p:par>
                                <p:cTn id="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43 -0.59518 L 0.64184 0.0568 E">
                                      <p:cBhvr>
                                        <p:cTn id="63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800"/>
                            </p:stCondLst>
                            <p:childTnLst>
                              <p:par>
                                <p:cTn id="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4184 0.05681 L -0.01962 0.05704 E">
                                      <p:cBhvr>
                                        <p:cTn id="66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5640" y="549360"/>
            <a:ext cx="64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Мы не будем циркуль брать,                                                                                                                      Будем взглядом круг писать.</a:t>
            </a:r>
            <a:r>
              <a:rPr b="1" lang="en-US" sz="3600" spc="-1" strike="noStrike">
                <a:solidFill>
                  <a:srgbClr val="00cc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124000" y="692280"/>
            <a:ext cx="5256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88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258920" y="907920"/>
            <a:ext cx="612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За окно ты посмотри.                                                                                                                                     Что ты видишь там вдали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484360" y="2205000"/>
            <a:ext cx="433224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2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16000" y="836640"/>
            <a:ext cx="590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А теперь на кончик носа.                                                                                                                                    Повтори так восемь раз ­                                                                                                                           Лучше будет видеть глаз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219640" y="2924280"/>
            <a:ext cx="31496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48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58920" y="836640"/>
            <a:ext cx="7056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Глазки нас благодарят,                                                                                                                         Поморгать нам всем велят.                                                                                                                                                                                              Плавно глазками моргаем,                                                                                                                                   Потом глазки закрывае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484360" y="3500280"/>
            <a:ext cx="352908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44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16000" y="119700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Чтобы больше было силы,                                                                                                                                                    К ним ладошки приложил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003640" y="2781360"/>
            <a:ext cx="293688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5:21:29Z</dcterms:created>
  <dc:creator>1</dc:creator>
  <dc:description/>
  <dc:language>en-US</dc:language>
  <cp:lastModifiedBy>1</cp:lastModifiedBy>
  <dcterms:modified xsi:type="dcterms:W3CDTF">2009-03-09T16:50:45Z</dcterms:modified>
  <cp:revision>2</cp:revision>
  <dc:subject/>
  <dc:title>Слайд 1</dc:title>
</cp:coreProperties>
</file>