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257-7363-4DA6-BC21-9189C4D4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951-5A34-44EA-B7B8-DA01AC0F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C0D-2E3F-470E-A36F-13371690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C0D-E86C-44BE-8C95-992E4D9C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D1F-6315-4D59-8486-97C90D4A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2C3-B59B-4FBE-B373-0967A277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76F-F45C-4B33-9565-25E2170E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BAA-288A-4D62-8BE3-83ED2A8C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B86F-7538-4166-8349-04093E1D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A3F-22D6-419C-A544-88665156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3C0-89A5-44DA-9B1E-FCC9835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C853-4566-4310-8382-346ECC9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131A-2770-4F9D-8626-B9281474A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27640" y="2060640"/>
            <a:ext cx="4105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ИМНАСТИ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773360"/>
            <a:ext cx="352908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хина М.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ь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чальных классов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У СОШ №25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58920" y="1413000"/>
            <a:ext cx="604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Раз, два, три, четыре, пять-                                                                                                                 Можно глазки открыва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56000" y="2997360"/>
            <a:ext cx="392436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8360" y="549360"/>
            <a:ext cx="7272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При письме или при сч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Вы, ребята, устае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Чтобы сохранить нам зрень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Наберитесь-ка терпен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Делай ты для глаз зарядк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Будет все тогда в порядк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227640" y="2133720"/>
            <a:ext cx="26132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16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620640"/>
            <a:ext cx="79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Проведем, друзья, сейчас                                                                                                                                              Упражнение для глаз.                                                                                                                             Вправо, влево посмотрели,                                                                                                                                                  Глазки все повеселе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0" y="3141720"/>
            <a:ext cx="3932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476280"/>
            <a:ext cx="63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Снизу вверх и сверху вниз.                                                                                                                                  Ты, хрусталик, не сердис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5229360"/>
            <a:ext cx="518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Посмотри на потолок,                                                                                                                                Отыщи там уголо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12000" y="1773360"/>
            <a:ext cx="2666880" cy="3333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987640" y="2133720"/>
            <a:ext cx="1584360" cy="14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84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1194E-006 L 1.94444E-006 -0.29423 E">
                                      <p:cBhvr>
                                        <p:cTn id="36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84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29423 L -0.06302 0.39995 E">
                                      <p:cBhvr>
                                        <p:cTn id="39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84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55640" y="692280"/>
            <a:ext cx="64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Чтобы мышцы крепче стали,                                                                                                                                    Смотрим мы по диагоналя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28080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8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42 0.05704 L 0.59462 -0.59518 E">
                                      <p:cBhvr>
                                        <p:cTn id="57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8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462 -0.59518 L -0.02743 -0.59518 E">
                                      <p:cBhvr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8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43 -0.59518 L 0.64184 0.0568 E">
                                      <p:cBhvr>
                                        <p:cTn id="6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88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4184 0.05681 L -0.01962 0.05704 E">
                                      <p:cBhvr>
                                        <p:cTn id="6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5640" y="549360"/>
            <a:ext cx="64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Мы не будем циркуль брать,                                                                                                                      Будем взглядом круг писать.</a:t>
            </a:r>
            <a:r>
              <a:rPr b="1" lang="en-US" sz="3600" spc="-1" strike="noStrike">
                <a:solidFill>
                  <a:srgbClr val="00cc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24000" y="692280"/>
            <a:ext cx="5256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8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58920" y="90792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За окно ты посмотри.                                                                                                                                     Что ты видишь там вдал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84360" y="2205000"/>
            <a:ext cx="43322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2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16000" y="836640"/>
            <a:ext cx="59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А теперь на кончик носа.                                                                                                                                    Повтори так восемь раз ­                                                                                                                           Лучше будет видеть глаз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19640" y="2924280"/>
            <a:ext cx="3149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48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58920" y="836640"/>
            <a:ext cx="7056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Глазки нас благодарят,                                                                                                                         Поморгать нам всем велят.                                                                                                                                                                                              Плавно глазками моргаем,                                                                                                                                   Потом глазки закрыва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352908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44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16000" y="119700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66"/>
                </a:solidFill>
                <a:latin typeface="Times New Roman"/>
              </a:rPr>
              <a:t>Чтобы больше было силы,                                                                                                                                                    К ним ладошки приложи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03640" y="2781360"/>
            <a:ext cx="29368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5:21:29Z</dcterms:created>
  <dc:creator>1</dc:creator>
  <dc:description/>
  <dc:language>en-US</dc:language>
  <cp:lastModifiedBy>1</cp:lastModifiedBy>
  <dcterms:modified xsi:type="dcterms:W3CDTF">2009-03-09T16:50:45Z</dcterms:modified>
  <cp:revision>2</cp:revision>
  <dc:subject/>
  <dc:title>Слайд 1</dc:title>
</cp:coreProperties>
</file>