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533-DED6-4E5E-9479-0DA2565F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7E0-728A-4B35-A865-84B8B2E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870-B34E-4672-B458-C6B56D6C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2F1-70EE-4ACB-B5F8-89BEDC04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306-60B4-4257-A1ED-2F87F289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B13-C096-48AA-A889-5EC543C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D53-2B06-4A3D-8B27-E119691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FA9-B17E-477A-9DEB-8681EF7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B71-BD25-4105-A820-83B1E758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E31-41C3-4518-A4A9-49B4C5F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E7D-54CF-4845-9BA7-12A42540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F2E-FE02-404B-90A5-E684B3F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0C09-1E28-40CD-BE78-F23A50F40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27640" y="2060640"/>
            <a:ext cx="4105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773360"/>
            <a:ext cx="3529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хина М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чальных класс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У СОШ №25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1413000"/>
            <a:ext cx="60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Раз, два, три, четыре, пять-                                                                                                                 Можно глазки открыв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56000" y="2997360"/>
            <a:ext cx="392436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549360"/>
            <a:ext cx="7272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ри письме или при сч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Вы, ребята, устае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сохранить нам зрень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Наберитесь-ка терп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Делай ты для глаз заряд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Будет все тогда в поряд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6132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16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2064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роведем, друзья, сейчас                                                                                                                                              Упражнение для глаз.                                                                                                                             Вправо, влево посмотрели,                                                                                                                                                  Глазки все повесел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3932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47628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Снизу вверх и сверху вниз.                                                                                                                                  Ты, хрусталик, не серди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22936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осмотри на потолок,                                                                                                                                Отыщи там угол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666880" cy="3333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987640" y="2133720"/>
            <a:ext cx="158436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4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1194E-006 L 1.94444E-006 -0.29423 E">
                                      <p:cBhvr>
                                        <p:cTn id="36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84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29423 L -0.06302 0.39995 E">
                                      <p:cBhvr>
                                        <p:cTn id="39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8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69228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мышцы крепче стали,                                                                                                                                    Смотрим мы по диагоналя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2808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42 0.05704 L 0.59462 -0.59518 E">
                                      <p:cBhvr>
                                        <p:cTn id="57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8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462 -0.59518 L -0.02743 -0.59518 E">
                                      <p:cBhvr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8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59518 L 0.64184 0.0568 E">
                                      <p:cBhvr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8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184 0.05681 L -0.01962 0.05704 E">
                                      <p:cBhvr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4936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Мы не будем циркуль брать,                                                                                                                      Будем взглядом круг писать.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52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8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90792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За окно ты посмотри.                                                                                                                                     Что ты видишь там вда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43322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2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6000" y="836640"/>
            <a:ext cx="59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А теперь на кончик носа.                                                                                                                                    Повтори так восемь раз ­                                                                                                                           Лучше будет видеть гла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314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8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8920" y="83664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Глазки нас благодарят,                                                                                                                         Поморгать нам всем велят.                                                                                                                                                                                              Плавно глазками моргаем,                                                                                                                                   Потом глазки закрыва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352908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44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6000" y="1197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больше было силы,                                                                                                                                                    К ним ладошки приложи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29368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5:21:29Z</dcterms:created>
  <dc:creator>1</dc:creator>
  <dc:description/>
  <dc:language>en-US</dc:language>
  <cp:lastModifiedBy>1</cp:lastModifiedBy>
  <dcterms:modified xsi:type="dcterms:W3CDTF">2009-03-09T16:50:45Z</dcterms:modified>
  <cp:revision>2</cp:revision>
  <dc:subject/>
  <dc:title>Слайд 1</dc:title>
</cp:coreProperties>
</file>