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E27-B816-44EC-8F56-C8BB7B2D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14F-AEE9-48C4-9E9C-15B1E3EC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F84-5FB5-4E1B-848C-361635CF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2DD-AD9F-4B66-BA1A-028DA9C1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17E-F8AF-4E27-9617-0F7FF083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89F-96B7-47EF-B7FA-89B04FA1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D9E-E47A-4FDE-8D7E-D07363E9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0AC-D2D0-47F4-A300-7AB263F4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FE1-615D-446B-A3BE-2EC1F971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CC8-834B-44F6-AFD9-C6DFA85F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D89-329D-41EC-BA65-4BB18406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B23-C7C3-4F3C-A51E-30777593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1EC2-66C3-429D-923E-49C1FFF44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828960" cy="4105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067280" y="2421000"/>
            <a:ext cx="4537080" cy="19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Капельки"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6120" y="3499920"/>
            <a:ext cx="755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Капля первая упала - кап 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И вторая пробежала - кап !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flipH="1">
            <a:off x="5940000" y="981000"/>
            <a:ext cx="26528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4327560"/>
            <a:ext cx="79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Мы на небо посмотрел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Капельки кап - кап запели,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амочились лиц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457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83480" y="418320"/>
            <a:ext cx="538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Мы их вытира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Туфли - посмотрите -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Мокрыми стали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4176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79280" y="1989720"/>
            <a:ext cx="670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Плечами дружно поведем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И все капельки стряхнем.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От дождя убежим.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Под кусточком посиди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200952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627280" y="2133720"/>
            <a:ext cx="6192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удьте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доровы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05440" y="404640"/>
            <a:ext cx="4138560" cy="316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33940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8:43:01Z</dcterms:created>
  <dc:creator>1</dc:creator>
  <dc:description/>
  <dc:language>en-US</dc:language>
  <cp:lastModifiedBy>1</cp:lastModifiedBy>
  <dcterms:modified xsi:type="dcterms:W3CDTF">2009-03-25T19:08:16Z</dcterms:modified>
  <cp:revision>3</cp:revision>
  <dc:subject/>
  <dc:title>Слайд 1</dc:title>
</cp:coreProperties>
</file>