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860-69F7-49C8-BC10-E428CB66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5E3-0558-46F8-87D8-BBB544AE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418-9C91-4527-A9BC-A171ECD9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4383-2FF8-4A12-A1A8-9DA45513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BE3-D378-43E7-88E8-E29DE8B0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766E-FE09-4D7C-9210-F850E163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0721-D2A5-44B5-95D0-BA518F9D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D61-BA10-4E44-8B35-5960F20A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C1C-3795-4F5F-BC50-B4F33FEA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E34-A1C6-441F-8910-1BBD7D38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3247-9CED-466A-A4C3-DC1A8CEB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4BD-615B-4337-826D-67079D8D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3704-BDD6-4F87-8A15-3DF2CF037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3828960" cy="4105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067280" y="2421000"/>
            <a:ext cx="4537080" cy="19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Капельки"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6120" y="3499920"/>
            <a:ext cx="755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Капля первая упала - кап 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Georgia"/>
              </a:rPr>
              <a:t>И вторая пробежала - кап !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flipH="1">
            <a:off x="5940000" y="981000"/>
            <a:ext cx="26528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432756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Мы на небо посмотрел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Капельки кап - кап запели,</a:t>
            </a:r>
            <a:br>
              <a:rPr sz="4000"/>
            </a:b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Намочились лиц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457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83480" y="418320"/>
            <a:ext cx="538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Мы их вытирал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Туфли - посмотрите -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Мокрыми стали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41767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79280" y="1989720"/>
            <a:ext cx="6703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Плечами дружно поведем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И все капельки стряхнем.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От дождя убежим.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Georgia"/>
              </a:rPr>
              <a:t>Под кусточком посиди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2009520" cy="32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2627280" y="2133720"/>
            <a:ext cx="619272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дьте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доровы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05440" y="404640"/>
            <a:ext cx="4138560" cy="316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3394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43:01Z</dcterms:created>
  <dc:creator>1</dc:creator>
  <dc:description/>
  <dc:language>en-US</dc:language>
  <cp:lastModifiedBy>1</cp:lastModifiedBy>
  <dcterms:modified xsi:type="dcterms:W3CDTF">2009-03-25T19:08:16Z</dcterms:modified>
  <cp:revision>3</cp:revision>
  <dc:subject/>
  <dc:title>Слайд 1</dc:title>
</cp:coreProperties>
</file>