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D1A-C146-4E13-BEFC-EA61DE6E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5FD-A1B2-4067-970F-CC6CDDDA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2AF-B707-4ADD-BFB2-B9E79E39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BB1-C961-430A-843B-027D0B68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9FB-6008-4AA3-AA31-472A1CF8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DCB-D665-4C4E-BA56-8C1ECC3D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A99-2B46-464A-9D61-3BF6473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F8A-11DD-417E-8447-4D53CEA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D35-C2FA-4182-9EAB-816C76B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274-9B8D-4991-BC0B-4CED1CBA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136-D957-4C08-B538-F5933E8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729-694F-46DE-838F-C332CAC8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26DA-BB19-464D-9043-8FBECA61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828960" cy="4105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067280" y="2421000"/>
            <a:ext cx="4537080" cy="19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апельки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6120" y="3499920"/>
            <a:ext cx="755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Капля первая упала - кап 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И вторая пробежала - кап 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5940000" y="981000"/>
            <a:ext cx="26528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432756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Мы на небо посмотре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пельки кап - кап запели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мочились лиц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457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83480" y="418320"/>
            <a:ext cx="538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Мы их вытира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Туфли - посмотрите -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Мокрыми стал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4176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79280" y="1989720"/>
            <a:ext cx="670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Плечами дружно поведем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И все капельки стряхнем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От дождя убежим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Под кусточком посид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200952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627280" y="2133720"/>
            <a:ext cx="6192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дьт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доровы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05440" y="404640"/>
            <a:ext cx="4138560" cy="316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3394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43:01Z</dcterms:created>
  <dc:creator>1</dc:creator>
  <dc:description/>
  <dc:language>en-US</dc:language>
  <cp:lastModifiedBy>1</cp:lastModifiedBy>
  <dcterms:modified xsi:type="dcterms:W3CDTF">2009-03-25T19:08:16Z</dcterms:modified>
  <cp:revision>3</cp:revision>
  <dc:subject/>
  <dc:title>Слайд 1</dc:title>
</cp:coreProperties>
</file>