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384-4356-4A26-AE41-1B1C34EC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C80-C881-4AF8-A491-379DCB75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D57-725A-4A0D-A566-1A6BB477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529-3AF2-47D8-A670-AF3F41FA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F07-07C7-483E-A77D-050AE39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FDC-F5AA-469C-A2E5-1148ED51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257-F3EB-4E1B-8FD5-ECFB5FAB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EEF-7829-434C-9278-75E70C46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B47-A62C-468C-91CA-68D9E4A2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61A-8ECF-4F5C-A499-3F38896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911-4BD9-42A0-9776-8970EDA6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0EF-8294-4593-8694-EE748C88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135D-F6D0-4037-88C6-D8E4751F7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07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332000" y="4292640"/>
            <a:ext cx="640872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63504" dir="2216091" blurRad="0" rotWithShape="0">
                    <a:srgbClr val="0066ff"/>
                  </a:outerShdw>
                </a:effectLst>
                <a:latin typeface="Bookman Old Style"/>
              </a:rPr>
              <a:t>ФИЗМИНУТКА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63504" dir="2216091" blurRad="0" rotWithShape="0">
                  <a:srgbClr val="0066ff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43640" y="2133720"/>
            <a:ext cx="220032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2708280"/>
            <a:ext cx="31194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26200" y="1341360"/>
            <a:ext cx="3817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796000" y="2565360"/>
            <a:ext cx="29862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300720" y="2349360"/>
            <a:ext cx="23497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659640" y="1916280"/>
            <a:ext cx="15541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56360" y="2924280"/>
            <a:ext cx="23763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22760" y="1700280"/>
            <a:ext cx="36212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2063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7:01:34Z</dcterms:created>
  <dc:creator>1</dc:creator>
  <dc:description/>
  <dc:language>en-US</dc:language>
  <cp:lastModifiedBy>1</cp:lastModifiedBy>
  <dcterms:modified xsi:type="dcterms:W3CDTF">2009-03-09T17:26:55Z</dcterms:modified>
  <cp:revision>2</cp:revision>
  <dc:subject/>
  <dc:title>Слайд 1</dc:title>
</cp:coreProperties>
</file>