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682-DC6E-4E9F-B8D5-0229242B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7C7-9A2A-4057-8DD7-0E77FE14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3A2-5C8C-4EBF-8C9A-D47A99F1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516-D1E8-490A-A2FD-1AE8F4FA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1D1-CCC5-4785-86C0-C6330B9C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2F4-6B74-4E7C-9E7D-69D96775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7C1C-A68B-4DF9-A6BD-53A2FFF7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F86-ECAD-4501-B916-DFACD10F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FF4-E4D7-4C2D-9264-EA95C575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48E-A914-4F28-8E54-7B442485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B83-A100-466F-A301-2CCDCB72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1BE-64C0-419C-ACD8-8EA9F43C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84BE-BE4F-438A-AC4B-086B0A3F7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07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332000" y="4292640"/>
            <a:ext cx="640872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63504" dir="2216091" blurRad="0" rotWithShape="0">
                    <a:srgbClr val="0066ff"/>
                  </a:outerShdw>
                </a:effectLst>
                <a:latin typeface="Bookman Old Style"/>
              </a:rPr>
              <a:t>ФИЗМИНУТКА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63504" dir="2216091" blurRad="0" rotWithShape="0">
                  <a:srgbClr val="0066ff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43640" y="2133720"/>
            <a:ext cx="220032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651640" y="2708280"/>
            <a:ext cx="31194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26200" y="1341360"/>
            <a:ext cx="3817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96000" y="2565360"/>
            <a:ext cx="29862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23497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659640" y="1916280"/>
            <a:ext cx="15541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56360" y="2924280"/>
            <a:ext cx="23763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22760" y="1700280"/>
            <a:ext cx="36212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588000" y="2276640"/>
            <a:ext cx="2063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01:34Z</dcterms:created>
  <dc:creator>1</dc:creator>
  <dc:description/>
  <dc:language>en-US</dc:language>
  <cp:lastModifiedBy>1</cp:lastModifiedBy>
  <dcterms:modified xsi:type="dcterms:W3CDTF">2009-03-09T17:26:55Z</dcterms:modified>
  <cp:revision>2</cp:revision>
  <dc:subject/>
  <dc:title>Слайд 1</dc:title>
</cp:coreProperties>
</file>