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553-C143-45F9-BA69-C184EE95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D41-2E6E-4B2D-A92B-EFBFE8E7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C59-66F0-43D7-B999-78D9353D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BF7-BC1A-4611-854D-8B78877E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117-F3AB-4FE2-985E-0A31F214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431-3248-448A-B075-68BCDCB0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863F-8E2A-4A5C-97AC-A2A9C808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365-B6DB-4E69-BE1A-C8E1DB45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0C9-A628-4416-BFB3-C4D19217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2F1-DF2F-4233-A5E7-F67A2F03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883-64C5-4A62-B073-D8FEE484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F6B-4B5E-42E3-B7D0-8883924F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12CD-4FB9-4D22-A6E7-47C8841AA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0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332000" y="4292640"/>
            <a:ext cx="640872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63504" dir="2216091" blurRad="0" rotWithShape="0">
                    <a:srgbClr val="0066ff"/>
                  </a:outerShdw>
                </a:effectLst>
                <a:latin typeface="Bookman Old Style"/>
              </a:rPr>
              <a:t>ФИЗМИНУТКА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63504" dir="2216091" blurRad="0" rotWithShape="0">
                  <a:srgbClr val="0066ff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43640" y="2133720"/>
            <a:ext cx="220032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51640" y="2708280"/>
            <a:ext cx="3119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26200" y="1341360"/>
            <a:ext cx="3817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6000" y="2565360"/>
            <a:ext cx="29862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23497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659640" y="1916280"/>
            <a:ext cx="15541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6360" y="2924280"/>
            <a:ext cx="23763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22760" y="1700280"/>
            <a:ext cx="36212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2063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01:34Z</dcterms:created>
  <dc:creator>1</dc:creator>
  <dc:description/>
  <dc:language>en-US</dc:language>
  <cp:lastModifiedBy>1</cp:lastModifiedBy>
  <dcterms:modified xsi:type="dcterms:W3CDTF">2009-03-09T17:26:55Z</dcterms:modified>
  <cp:revision>2</cp:revision>
  <dc:subject/>
  <dc:title>Слайд 1</dc:title>
</cp:coreProperties>
</file>